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255-497F-4B17-901F-67A4E96B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283-8115-44FB-90FD-F9786AD1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43C-5CF4-4299-8C47-BB92DE82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12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0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12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0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3AA-3325-4F25-9D3C-E7FE66E9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AD14-7790-44D2-9A93-26A87D0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FBA8-C58E-442B-89C8-3481AA7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798C-8BD1-4EB6-8959-FEB5E0C7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B8D-D617-4392-B254-54EC849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7CB2-F116-475D-A0B1-139C7CC0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4392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AB4B-E44F-4CB0-9FB7-C6DA734D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945B-9A5F-4066-9EBB-3C926939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C62-D1E6-464A-AD2E-FCA546C0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D8DF-8ED7-4E7C-A003-CBB6EF1C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064E-62C0-426E-8F70-02526B4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58AE-1098-46C3-9161-82920BD7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8D85-F490-457B-A54E-1CB71ADA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12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000" y="137952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12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000" y="3957480"/>
            <a:ext cx="27964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F701-B463-438B-B2CF-2A088EB8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FDF-6361-46E3-958C-8AE9B4F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C59-95C1-4580-ABD4-008A92DF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BC0-3142-47E5-B63F-3CEC1DC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4392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D46-0BAF-496B-BBBA-3515F7FE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F5D-2F55-41A0-AD49-3423CFC8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95748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751-8F1D-415E-8709-85C669DA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379520"/>
            <a:ext cx="4238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57480"/>
            <a:ext cx="86853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8D4-E164-4EC2-9B21-B459B8E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1216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240" y="0"/>
            <a:ext cx="9140760" cy="50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53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2927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lick to edit Master subtit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2286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/9/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7813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0BD4C-144F-459C-A9F0-E3BEEF4512C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fld id="{9A8D0157-47D4-443E-A554-638D5B18E3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1216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28600" y="1379520"/>
            <a:ext cx="8685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6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7/9/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3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DCA5-3D17-4613-8707-90161ACD0B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fld id="{34205212-7138-4EE8-AE6E-D042429706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434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06600" y="125244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130640" cy="53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92200" y="125244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2160" y="126360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57280" y="1263600"/>
            <a:ext cx="4343400" cy="54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ng Island Creek Site 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37016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95440" y="1263600"/>
            <a:ext cx="4284720" cy="549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